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219-82B1-4777-9FA3-E04A5693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9FA9-EB77-4EE3-9BB6-8C042923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1C94-66C4-4FE1-AF2C-997C4683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F36-97FD-42CC-888C-E5F13AC3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1447-9137-42D6-9A80-C195CB2C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6F8C-DA65-4601-B32D-493D1FBE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8C30-304C-4B56-A226-B16C0713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757-9565-430A-A36F-9FAB4FF7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9148-C745-411E-BB06-22BCB210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D147-F1CF-4C39-AFC3-A36A1F77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E720-7F63-4C95-B6C2-A9594569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0548-B5C5-4869-B0F0-7A1E6FE7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F651-65A5-405A-8B23-00B4A1025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uni Tech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lo Wor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2:28:59Z</dcterms:created>
  <dc:creator>Jose</dc:creator>
  <dc:description/>
  <dc:language>en-US</dc:language>
  <cp:lastModifiedBy>Jose</cp:lastModifiedBy>
  <dcterms:modified xsi:type="dcterms:W3CDTF">2006-06-29T02:29:27Z</dcterms:modified>
  <cp:revision>1</cp:revision>
  <dc:subject/>
  <dc:title>Amyuni Tech Sample</dc:title>
</cp:coreProperties>
</file>